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DED-C841-4CA4-AB9F-FF49FB13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942-5F65-466B-8839-5E6FF748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80E-9D0D-40D6-B078-999E5282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61F-FEA6-4565-8907-B37ECD13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7AB4-D0BE-4371-BB6D-40AD44C8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248-0B22-43A1-8532-6FDBBBF3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94FF-D7C4-491B-8150-1FAD1DE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B58C-3B49-4382-8466-8E04EA2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3230-FEDD-48FF-8749-3467B19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33BE-A018-4625-A6D2-9EF1D088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45ED-FCA6-44DB-841E-2F16F01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254-A26D-40D8-985C-21FEE26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68D-8BA1-4729-BE41-2919B99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0C5-C0A1-470D-A289-CDE6602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6D4-4AD7-49D5-9378-A74DD90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826-2F4B-48A8-91ED-8DBE0F18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4839-2F37-45A7-840D-AA34205D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9A9B-2CED-47E9-8D25-0BE5EF41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54A4-EA61-4415-8B5B-42F6EFA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08C6-8654-4FD3-9ACA-7849F91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7FE7-DA44-457D-9FBD-9CA9714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27E2-37C5-4F11-A2F6-EC1D323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0B3-702D-4A7C-A5F7-1E88BF33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65FA-483B-4F5F-95EE-3F8D79E6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63B9-D764-473D-B693-76F680E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CA5C-C045-4E36-9A5A-A799370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D423-66E5-41F3-9D36-5390E91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EB9A-1470-4FA1-BFF6-054499E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59C0-1256-464F-AABF-CCCA049E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F844-DA78-48D8-AAEC-3A5F1FCB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A2CA-1610-4DA7-A446-6826BC05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13D4-9387-4EB0-BE91-485FA6D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164E-7683-4A82-B831-2A638C34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CD2-46AE-4A3D-B485-6D8E430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FCF17-EDD4-424B-8FE2-F0826C7D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16D9-53E2-4934-9159-8C0A69FE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346F-EA88-450C-8479-ECFBCE5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8A68-F3E4-424E-9930-F1F121C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6983-9F9A-47C4-AF87-6E58F59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B491-0EE5-474E-B9B2-7F72208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FA76-9DE7-43A3-9744-489174D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C9D2-6888-49E0-9953-3BCA6B63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15A0-AD03-4D36-B234-0C9914D8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832-9FD4-4699-9274-73756E3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92D-5042-4A2A-92C3-2C22206D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71F-3A4B-4BED-A247-3272886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AC7-373E-4011-B4B8-84B9A7B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D9A-F8B3-4EAA-AEC5-9156033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E25-B615-4C2D-88A6-12DA499D3C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ECE-1954-4079-B9DE-665FF133F5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25DB-B15E-4347-BAD1-7FD2D8F6CAD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5A7D-52F0-40EB-997F-94C9966385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69960" y="987480"/>
            <a:ext cx="7883640" cy="3286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4280" y="3999240"/>
            <a:ext cx="7096320" cy="2287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IECT REALIZAT DE ELEVII 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alotas  Time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Zsigmond Zsuzsann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zekely Hun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chis Laur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85840" y="2023920"/>
            <a:ext cx="67723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Indicatorii economico-financiari calculati pentru anul 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curenta = 0,9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imediata = 0,7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dul de indatorare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 rotatie  a debitelor –clienti = 153,85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rotatie  a creditelor  - furnizori = 46,26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ja bruta din vanzari = 44 ,57 %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Indicatorii economico-financiari calculati pentru anul 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curenta = 1,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imediata = 1,4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dul de indatorare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 rotatie  a debitelor –clienti = 40,28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rotatie  a creditelor  - furnizori = 52,27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ja bruta din vanzari = 34,37%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Grafice cu evolutia indicatorilor economico-finaciari in perioada 2007-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5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oncluzii fina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ul 2008 inseamna pentru societatea DELTA SRL , un an financiar b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ativ cu anul 2007 toti indicatorii economico-financiari s-au imbunatat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dul indatorare a ramas constant, ceea ce arata ca societatea detinhe suficiente resurse banesti pentru finantarea afaceri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Date informative despre socie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ele societat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 DELTA S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ul de identificare fisc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58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7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resa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d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U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ta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6"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 de inregistrare la Registrul Comer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/250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de propie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L – SOCIETATE CU RASPUNDERE LIMIT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ul CAEN (conform Clasificarii Activitatii Economiei Nationale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1 - Comert cu amanuntul prin intermediul caselor de comenzi sau pri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     Capital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alanta de verificare la data de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935000"/>
          <a:ext cx="8229600" cy="245556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715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LTA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TA DE VERIFICARE LA 31 DECEMBRIE </a:t>
                      </a:r>
                      <a:r>
                        <a:rPr b="1" lang="en-US" sz="1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init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aje perio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fi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um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SUBSCRIS VARS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SI PIER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2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9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2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ELI DE CONSTITU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8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. CHELT.DE CONSTITU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DE NATURA OB. DE INVEN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2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3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.DE PRET LA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7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4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67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7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2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4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4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-FACTURI NESO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- SALARII DATO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ATII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FIRMA PT.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2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 GARANTARE A CREANTELOR SALAR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UNITATII LA 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ANG. LA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ZITUL PE SALAR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URI SPECIALE TAXE SI V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-CONTURI CUR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DIN OP. IN CURS DE CLARI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URI LA BANC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3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56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 IN CURS DE DECO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7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2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MENTE INTE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COMBUSTIBIL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MAT.CONSUMA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MAT.NESTO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MARFU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OSTALE SI TAXE TELEC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4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4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ERV.BAN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 CHELT.CU SERV.LA TE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3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3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IMPOZITE &amp; TA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ALARII PERS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SIG.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J.DE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RIB. FIRMEI PT.ASIG.SOC.SA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CONTURILE ACOR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DE  EXPL.CU AMORT. IMO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VANZARI DE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ACTIVITATI DIVE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TURI DIN SUBV 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OBIN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u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75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75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7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7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alanta de verificare la data de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935000"/>
          <a:ext cx="8229600" cy="292737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715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LTA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7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TA DE VERIFICARE LA 31 DECEMBRIE </a:t>
                      </a:r>
                      <a:r>
                        <a:rPr b="1" lang="en-US" sz="1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init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aje perio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fi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um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SUBSCRIS VARS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UL REPORTAT - PROFITUL NEREP./ PIRE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SI PIER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2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9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775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3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5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DE NATURA OB. DE INVEN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53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96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.DE PRET LA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7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48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75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26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60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35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5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-FACTURI NESO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.-DEBIT PT.PRESTARI SERVIC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9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7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07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905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69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 - CREDIT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2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2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- SALARII DATO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ATII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FIRMA PT.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2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 GARANTARE A CREANTELOR SALAR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UNITATII LA 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ANG. LA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ZITUL PE PRO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ZITUL PE SALAR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URI SPECIALE TAXE SI V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-CONTURI CUR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44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DIN OP. IN CURS DE CLARI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7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7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9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URI LA BANC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4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789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27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URI LA BANCA IN DEV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9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9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 IN CURS DE DECO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77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605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9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MENTE INTE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84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84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COMBUSTIBIL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MAT.CONSUMA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OBIECTE DE INVEN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MAT.NESTO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2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2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MARFU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86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86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INTRETINEREA SI R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OSTALE SI TAXE TELEC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ERV.BAN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 CHELT.CU SERV.LA TE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5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5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5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5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IMPOZITE &amp; TA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ALARII PERS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SIG.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J.DE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RIB. FIRMEI PT.ASIG.SOC.SA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ELI NEDEDUCTI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CONTURILE ACOR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IMPOZITUL PE PRO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LUCRARI SI SERVIC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VANZARI DE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ACTIVITATI DIVE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7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7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45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45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TURI DIN SUBV 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ESPAGUBIRI SI PENALI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IF.DE CURS VALU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OBIN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u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292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292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6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6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90840" y="1935000"/>
            <a:ext cx="5962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638360" y="1935000"/>
            <a:ext cx="5867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638360" y="2203560"/>
            <a:ext cx="58672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635120" y="1935000"/>
            <a:ext cx="5873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79400" y="1935000"/>
            <a:ext cx="5785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um care adi ?</cp:lastModifiedBy>
  <dcterms:modified xsi:type="dcterms:W3CDTF">2010-02-26T12:14:22Z</dcterms:modified>
  <cp:revision>5</cp:revision>
  <dc:subject/>
  <dc:title>ANALIZA ECHILIBRULUI FINANCIAR LA  SC X SRL</dc:title>
</cp:coreProperties>
</file>